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28F-AE45-4486-95F8-55A451AA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E13F-4E16-44BE-9540-7AB52D5D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430-B181-4547-9A49-3F85A004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5E8-7EEC-4B95-8EEE-70797964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775C-CC5A-4C76-B7D2-11968316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904-AC5E-4FE5-8E75-5D2BA03F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C7D8-326C-49FD-AFCF-AE0EA395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C69A-4301-43A0-BC17-8CE5F9E1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B6E-EA22-400B-970C-3322C0E0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DD88-98FE-4150-AD42-C0308A4E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6EB-1EFC-4CD3-84F2-1FE7AF1A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E20-8962-4263-B9EE-EFD88B22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716E-72CC-4603-BB72-D313B7171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video" Target="file:///tmp/home/.config/libreoffice/4/user/gallery/respH" TargetMode="External"/><Relationship Id="rId3" Type="http://schemas.microsoft.com/office/2007/relationships/media" Target="file:///tmp/home/.config/libreoffice/4/user/gallery/respH" TargetMode="External"/><Relationship Id="rId4" Type="http://schemas.openxmlformats.org/officeDocument/2006/relationships/image" Target="../media/image2.png"/><Relationship Id="rId5" Type="http://schemas.openxmlformats.org/officeDocument/2006/relationships/video" Target="file:///tmp/home/.config/libreoffice/4/user/gallery/resH" TargetMode="External"/><Relationship Id="rId6" Type="http://schemas.microsoft.com/office/2007/relationships/media" Target="file:///tmp/home/.config/libreoffice/4/user/gallery/resH" TargetMode="External"/><Relationship Id="rId7" Type="http://schemas.openxmlformats.org/officeDocument/2006/relationships/image" Target="../media/image2.png"/><Relationship Id="rId8" Type="http://schemas.openxmlformats.org/officeDocument/2006/relationships/video" Target="file:///tmp/home/.config/libreoffice/4/user/gallery/hall" TargetMode="External"/><Relationship Id="rId9" Type="http://schemas.microsoft.com/office/2007/relationships/media" Target="file:///tmp/home/.config/libreoffice/4/user/gallery/hall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782120" cy="5826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057400" y="1219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28954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vide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3048120" y="4800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1"/>
          <a:stretch/>
        </p:blipFill>
        <p:spPr>
          <a:xfrm>
            <a:off x="22096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7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6:10:01Z</dcterms:created>
  <dc:creator>candiceaustin</dc:creator>
  <dc:description/>
  <dc:language>en-US</dc:language>
  <cp:lastModifiedBy>392-student</cp:lastModifiedBy>
  <dcterms:modified xsi:type="dcterms:W3CDTF">2009-10-07T14:00:43Z</dcterms:modified>
  <cp:revision>4</cp:revision>
  <dc:subject/>
  <dc:title>Slide 1</dc:title>
</cp:coreProperties>
</file>